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6.xml.rels" ContentType="application/vnd.openxmlformats-package.relationships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1981-A63A-4D8A-96F8-B689159F78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D43E-1D58-4425-B3D9-B01C413D0C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20DF-0EE1-40A4-ABF8-C8021CB5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26F-6567-4FC6-AF96-49F69A0C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0CE-9645-485C-8AAF-1EEA852D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CD8-9099-4EA5-95F6-32AE674E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F65A-F2FA-4C78-AF3D-263BC87E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2F91-5BA3-4263-838B-9A88042B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58D6-3C2F-4DED-945B-66CE4E70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D577-8E11-49ED-8855-3C4A743B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3717-DFC0-479D-9701-E9182F1D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69AD-A930-49BE-929C-66D9CD35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F9CB-2807-494C-83C5-28D676B8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E26-3636-451F-BD44-AB9AE83B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42B1-A1B6-417D-AF1B-E8F95140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D743-10E6-446D-AF62-FF7E3F36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7DBA-ECDD-458D-BB02-5A67E671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404D-4534-46F6-A758-A04E5B07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5970-3B37-4A11-AAF7-53E8977F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13E5D-CF60-48DA-A509-6BEC4664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2CE2B-BF82-4971-88C2-AB081885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6E2EB-FDAD-47AC-AB6C-58E59448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C2426-714C-403F-817A-A99A078F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B1E3-EC5D-4CDA-8464-05D88518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9C7D-4A02-4EFF-B5DB-540FA8DB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86236-EA87-4A40-9A55-D4E80551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410E0-2123-426A-B91E-3A194163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9FB4-8945-4D7C-8450-059A75EC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D720F-8298-455F-9997-2F02E6C9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05C6C-4A9D-4EBB-8ED0-3E38C8E0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509AA-0C06-4ED2-8536-A01C9646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2B5F8-9221-48E6-BCC9-B7336838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441-E980-4AE1-B927-198E76CD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7F3-1613-4028-99BA-81D23351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D01-04F7-487E-8025-42DFFB29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68B-496A-4109-821A-22EDA385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E71-5D0D-4DE9-B0BC-66A21C63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FF8-5E09-4C4C-821C-670189D8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7571-664F-4D62-B78E-2B41466B1023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 Поляков, 2012           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           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                                                                                   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narod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0642-115E-46FA-BFE3-09480354431D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Исполнитель Роб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 Поляков, 2012           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                                                                                               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narod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CCC2-7C7E-4D34-AE83-EEB0D5D2F7FD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9392-27BE-4264-9D8A-25BBDC766E3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1. Знакомство с исполнителем Роб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C562-16C5-4CA7-8E84-2E39B84F89A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70C1-3EB0-4F35-9947-37D35257D33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4. Вложенные ци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омер слайда 1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7CF0-B817-4A54-8DE8-27B0BEFCDDE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ложенные цик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77"/>
          <p:cNvSpPr/>
          <p:nvPr/>
        </p:nvSpPr>
        <p:spPr>
          <a:xfrm>
            <a:off x="5234040" y="906480"/>
            <a:ext cx="359892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357120" y="876240"/>
            <a:ext cx="4413240" cy="388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544680" y="1643040"/>
            <a:ext cx="441144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730080" y="2409840"/>
            <a:ext cx="441360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4" name="Прямоугольник 13"/>
          <p:cNvSpPr/>
          <p:nvPr/>
        </p:nvSpPr>
        <p:spPr>
          <a:xfrm>
            <a:off x="5592600" y="1992240"/>
            <a:ext cx="242280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ая прямоугольная выноска 14"/>
          <p:cNvSpPr/>
          <p:nvPr/>
        </p:nvSpPr>
        <p:spPr>
          <a:xfrm>
            <a:off x="6222960" y="4940280"/>
            <a:ext cx="2673360" cy="579600"/>
          </a:xfrm>
          <a:prstGeom prst="wedgeRoundRectCallout">
            <a:avLst>
              <a:gd name="adj1" fmla="val -47421"/>
              <a:gd name="adj2" fmla="val -10531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5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55"/>
          <p:cNvGrpSpPr/>
          <p:nvPr/>
        </p:nvGrpSpPr>
        <p:grpSpPr>
          <a:xfrm>
            <a:off x="5292720" y="5621400"/>
            <a:ext cx="3413160" cy="663480"/>
            <a:chOff x="5292720" y="5621400"/>
            <a:chExt cx="3413160" cy="663480"/>
          </a:xfrm>
        </p:grpSpPr>
        <p:sp>
          <p:nvSpPr>
            <p:cNvPr id="237" name="Text Box 56"/>
            <p:cNvSpPr/>
            <p:nvPr/>
          </p:nvSpPr>
          <p:spPr>
            <a:xfrm>
              <a:off x="5759640" y="5727600"/>
              <a:ext cx="294624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де остановитс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57"/>
            <p:cNvSpPr/>
            <p:nvPr/>
          </p:nvSpPr>
          <p:spPr>
            <a:xfrm>
              <a:off x="5292720" y="5621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ложенные цик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236D-3685-4A73-8CE0-1B4C80CF64F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357120" y="876240"/>
            <a:ext cx="3400560" cy="29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2" name="Прямоугольник 4"/>
          <p:cNvSpPr/>
          <p:nvPr/>
        </p:nvSpPr>
        <p:spPr>
          <a:xfrm>
            <a:off x="3862440" y="906480"/>
            <a:ext cx="4970520" cy="521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5"/>
          <p:cNvSpPr/>
          <p:nvPr/>
        </p:nvSpPr>
        <p:spPr>
          <a:xfrm>
            <a:off x="4581360" y="2362320"/>
            <a:ext cx="3443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55"/>
          <p:cNvGrpSpPr/>
          <p:nvPr/>
        </p:nvGrpSpPr>
        <p:grpSpPr>
          <a:xfrm>
            <a:off x="142920" y="4362480"/>
            <a:ext cx="3681000" cy="1663200"/>
            <a:chOff x="142920" y="4362480"/>
            <a:chExt cx="3681000" cy="1663200"/>
          </a:xfrm>
        </p:grpSpPr>
        <p:sp>
          <p:nvSpPr>
            <p:cNvPr id="245" name="Text Box 56"/>
            <p:cNvSpPr/>
            <p:nvPr/>
          </p:nvSpPr>
          <p:spPr>
            <a:xfrm>
              <a:off x="609480" y="4468680"/>
              <a:ext cx="3214440" cy="155700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ложенный цикл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это цикл внутр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другого цикл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57"/>
            <p:cNvSpPr/>
            <p:nvPr/>
          </p:nvSpPr>
          <p:spPr>
            <a:xfrm>
              <a:off x="142920" y="4362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Полилиния 9"/>
          <p:cNvSpPr/>
          <p:nvPr/>
        </p:nvSpPr>
        <p:spPr>
          <a:xfrm>
            <a:off x="3551400" y="2801880"/>
            <a:ext cx="1371600" cy="1673280"/>
          </a:xfrm>
          <a:prstGeom prst="pie">
            <a:avLst/>
          </a:prstGeom>
          <a:noFill/>
          <a:ln w="28440">
            <a:solidFill>
              <a:srgbClr val="3f3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олилиния 10"/>
          <p:cNvSpPr/>
          <p:nvPr/>
        </p:nvSpPr>
        <p:spPr>
          <a:xfrm>
            <a:off x="3822840" y="4454640"/>
            <a:ext cx="826920" cy="593640"/>
          </a:xfrm>
          <a:prstGeom prst="pie">
            <a:avLst/>
          </a:prstGeom>
          <a:noFill/>
          <a:ln w="28440">
            <a:solidFill>
              <a:srgbClr val="3f3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F838-F357-4834-BE68-3BE8DC520D5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D3D5-7B14-4C1B-9277-0604ED5980E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5. Циклы с услов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ы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D508-8EDB-4017-941D-7448EB09043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388800" y="903240"/>
            <a:ext cx="3583080" cy="378000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55"/>
          <p:cNvGrpSpPr/>
          <p:nvPr/>
        </p:nvGrpSpPr>
        <p:grpSpPr>
          <a:xfrm>
            <a:off x="579600" y="4900680"/>
            <a:ext cx="2955240" cy="1663200"/>
            <a:chOff x="579600" y="4900680"/>
            <a:chExt cx="2955240" cy="1663200"/>
          </a:xfrm>
        </p:grpSpPr>
        <p:sp>
          <p:nvSpPr>
            <p:cNvPr id="259" name="Text Box 56"/>
            <p:cNvSpPr/>
            <p:nvPr/>
          </p:nvSpPr>
          <p:spPr>
            <a:xfrm>
              <a:off x="1046160" y="5006880"/>
              <a:ext cx="2488680" cy="155700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тояния 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длины стенок  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неизвестн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57"/>
            <p:cNvSpPr/>
            <p:nvPr/>
          </p:nvSpPr>
          <p:spPr>
            <a:xfrm>
              <a:off x="579600" y="4900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Прямоугольник 7"/>
          <p:cNvSpPr/>
          <p:nvPr/>
        </p:nvSpPr>
        <p:spPr>
          <a:xfrm>
            <a:off x="4095720" y="906480"/>
            <a:ext cx="4784760" cy="4117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379440" y="912960"/>
            <a:ext cx="3581280" cy="37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3" name="Скругленная прямоугольная выноска 9"/>
          <p:cNvSpPr/>
          <p:nvPr/>
        </p:nvSpPr>
        <p:spPr>
          <a:xfrm>
            <a:off x="6383160" y="1494000"/>
            <a:ext cx="1511640" cy="502920"/>
          </a:xfrm>
          <a:prstGeom prst="wedgeRoundRectCallout">
            <a:avLst>
              <a:gd name="adj1" fmla="val -85671"/>
              <a:gd name="adj2" fmla="val 61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ы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5F17-E5C7-4F90-BD48-B2B8B402673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7"/>
          <p:cNvSpPr/>
          <p:nvPr/>
        </p:nvSpPr>
        <p:spPr>
          <a:xfrm>
            <a:off x="4095720" y="906480"/>
            <a:ext cx="478476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241200" y="947880"/>
            <a:ext cx="3656160" cy="385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0676-99C7-4292-A682-201AB52C3A0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D59A-387C-4805-AF2F-873F222DF37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6. Вет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1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2375-0B44-472D-B665-437707BD42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а исполнителя Робо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3" descr=""/>
          <p:cNvPicPr/>
          <p:nvPr/>
        </p:nvPicPr>
        <p:blipFill>
          <a:blip r:embed="rId1"/>
          <a:stretch/>
        </p:blipFill>
        <p:spPr>
          <a:xfrm>
            <a:off x="617400" y="941400"/>
            <a:ext cx="314964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Скругленная прямоугольная выноска 5"/>
          <p:cNvSpPr/>
          <p:nvPr/>
        </p:nvSpPr>
        <p:spPr>
          <a:xfrm>
            <a:off x="3581280" y="1382760"/>
            <a:ext cx="946440" cy="507960"/>
          </a:xfrm>
          <a:prstGeom prst="wedgeRoundRectCallout">
            <a:avLst>
              <a:gd name="adj1" fmla="val -81217"/>
              <a:gd name="adj2" fmla="val 16309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ая прямоугольная выноска 6"/>
          <p:cNvSpPr/>
          <p:nvPr/>
        </p:nvSpPr>
        <p:spPr>
          <a:xfrm>
            <a:off x="1100160" y="4167360"/>
            <a:ext cx="1163520" cy="507960"/>
          </a:xfrm>
          <a:prstGeom prst="wedgeRoundRectCallout">
            <a:avLst>
              <a:gd name="adj1" fmla="val 42398"/>
              <a:gd name="adj2" fmla="val -223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ая прямоугольная выноска 7"/>
          <p:cNvSpPr/>
          <p:nvPr/>
        </p:nvSpPr>
        <p:spPr>
          <a:xfrm>
            <a:off x="322200" y="1236600"/>
            <a:ext cx="1149480" cy="507960"/>
          </a:xfrm>
          <a:prstGeom prst="wedgeRoundRectCallout">
            <a:avLst>
              <a:gd name="adj1" fmla="val 82828"/>
              <a:gd name="adj2" fmla="val 2158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ая прямоугольная выноска 8"/>
          <p:cNvSpPr/>
          <p:nvPr/>
        </p:nvSpPr>
        <p:spPr>
          <a:xfrm>
            <a:off x="3046320" y="3065400"/>
            <a:ext cx="2193840" cy="1339920"/>
          </a:xfrm>
          <a:prstGeom prst="wedgeRoundRectCallout">
            <a:avLst>
              <a:gd name="adj1" fmla="val -64277"/>
              <a:gd name="adj2" fmla="val -6676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у клетку надо 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76"/>
          <p:cNvSpPr/>
          <p:nvPr/>
        </p:nvSpPr>
        <p:spPr>
          <a:xfrm>
            <a:off x="396720" y="4952880"/>
            <a:ext cx="8396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Задача для Робо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закрасить все отмеченные клетки и придти на Баз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5462640" y="941400"/>
            <a:ext cx="314964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6" name="Стрелка вправо 12"/>
          <p:cNvSpPr/>
          <p:nvPr/>
        </p:nvSpPr>
        <p:spPr>
          <a:xfrm>
            <a:off x="4329000" y="2382840"/>
            <a:ext cx="582840" cy="29196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0000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тв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EC8A-8A17-47AA-95B9-7BF80CEB15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282760" y="1047600"/>
            <a:ext cx="5060880" cy="269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77" name="Group 55"/>
          <p:cNvGrpSpPr/>
          <p:nvPr/>
        </p:nvGrpSpPr>
        <p:grpSpPr>
          <a:xfrm>
            <a:off x="890640" y="4064040"/>
            <a:ext cx="7727400" cy="663480"/>
            <a:chOff x="890640" y="4064040"/>
            <a:chExt cx="7727400" cy="663480"/>
          </a:xfrm>
        </p:grpSpPr>
        <p:sp>
          <p:nvSpPr>
            <p:cNvPr id="278" name="Text Box 56"/>
            <p:cNvSpPr/>
            <p:nvPr/>
          </p:nvSpPr>
          <p:spPr>
            <a:xfrm>
              <a:off x="1357200" y="4170240"/>
              <a:ext cx="726084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тояния и количество проходов неизвестн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57"/>
            <p:cNvSpPr/>
            <p:nvPr/>
          </p:nvSpPr>
          <p:spPr>
            <a:xfrm>
              <a:off x="890640" y="4064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тв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DE25-8D52-4126-8CDB-12DAE722B02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74680" y="912960"/>
            <a:ext cx="371304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3" name="Прямоугольник 4"/>
          <p:cNvSpPr/>
          <p:nvPr/>
        </p:nvSpPr>
        <p:spPr>
          <a:xfrm>
            <a:off x="4129200" y="906480"/>
            <a:ext cx="478476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права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4129200" y="2735280"/>
            <a:ext cx="4784760" cy="3339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274680" y="1398600"/>
            <a:ext cx="3713040" cy="19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6" name="Picture 3" descr=""/>
          <p:cNvPicPr/>
          <p:nvPr/>
        </p:nvPicPr>
        <p:blipFill>
          <a:blip r:embed="rId3"/>
          <a:stretch/>
        </p:blipFill>
        <p:spPr>
          <a:xfrm>
            <a:off x="274680" y="1884240"/>
            <a:ext cx="3713040" cy="19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7" name="Прямоугольник 8"/>
          <p:cNvSpPr/>
          <p:nvPr/>
        </p:nvSpPr>
        <p:spPr>
          <a:xfrm>
            <a:off x="144360" y="2941560"/>
            <a:ext cx="39481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олилиния 9"/>
          <p:cNvSpPr/>
          <p:nvPr/>
        </p:nvSpPr>
        <p:spPr>
          <a:xfrm>
            <a:off x="3992400" y="2801880"/>
            <a:ext cx="930600" cy="254160"/>
          </a:xfrm>
          <a:prstGeom prst="pie">
            <a:avLst/>
          </a:prstGeom>
          <a:noFill/>
          <a:ln w="28440">
            <a:solidFill>
              <a:srgbClr val="3f3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ая прямоугольная выноска 10"/>
          <p:cNvSpPr/>
          <p:nvPr/>
        </p:nvSpPr>
        <p:spPr>
          <a:xfrm>
            <a:off x="3595680" y="3724200"/>
            <a:ext cx="1511280" cy="503280"/>
          </a:xfrm>
          <a:prstGeom prst="wedgeRoundRectCallout">
            <a:avLst>
              <a:gd name="adj1" fmla="val 52976"/>
              <a:gd name="adj2" fmla="val -17739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тв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8F05-B6C8-4B09-986C-96842E61D09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30040" y="912960"/>
            <a:ext cx="371340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93" name="Прямоугольник 11"/>
          <p:cNvSpPr/>
          <p:nvPr/>
        </p:nvSpPr>
        <p:spPr>
          <a:xfrm>
            <a:off x="4129200" y="906480"/>
            <a:ext cx="4784760" cy="5534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права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вс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5"/>
          <p:cNvGrpSpPr/>
          <p:nvPr/>
        </p:nvGrpSpPr>
        <p:grpSpPr>
          <a:xfrm>
            <a:off x="635040" y="3316320"/>
            <a:ext cx="2565000" cy="663480"/>
            <a:chOff x="635040" y="3316320"/>
            <a:chExt cx="2565000" cy="663480"/>
          </a:xfrm>
        </p:grpSpPr>
        <p:sp>
          <p:nvSpPr>
            <p:cNvPr id="295" name="Text Box 56"/>
            <p:cNvSpPr/>
            <p:nvPr/>
          </p:nvSpPr>
          <p:spPr>
            <a:xfrm>
              <a:off x="1101600" y="3422520"/>
              <a:ext cx="209844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57"/>
            <p:cNvSpPr/>
            <p:nvPr/>
          </p:nvSpPr>
          <p:spPr>
            <a:xfrm>
              <a:off x="635040" y="33163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Прямоугольник 15"/>
          <p:cNvSpPr/>
          <p:nvPr/>
        </p:nvSpPr>
        <p:spPr>
          <a:xfrm>
            <a:off x="4772160" y="2820960"/>
            <a:ext cx="35240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вс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255C-9047-4E59-A344-974648EC167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CBAD-80E5-47DC-9E52-37F06D5C48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7. Сложные 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E75E-E34D-47F3-8D08-1034A12CB94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400040" y="982800"/>
            <a:ext cx="6807240" cy="294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07" name="Group 55"/>
          <p:cNvGrpSpPr/>
          <p:nvPr/>
        </p:nvGrpSpPr>
        <p:grpSpPr>
          <a:xfrm>
            <a:off x="890640" y="4064040"/>
            <a:ext cx="7727400" cy="931680"/>
            <a:chOff x="890640" y="4064040"/>
            <a:chExt cx="7727400" cy="931680"/>
          </a:xfrm>
        </p:grpSpPr>
        <p:sp>
          <p:nvSpPr>
            <p:cNvPr id="308" name="Text Box 56"/>
            <p:cNvSpPr/>
            <p:nvPr/>
          </p:nvSpPr>
          <p:spPr>
            <a:xfrm>
              <a:off x="1357200" y="4170240"/>
              <a:ext cx="726084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ход на Базу там, где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сверху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свободно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и 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снизу свобод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7"/>
            <p:cNvSpPr/>
            <p:nvPr/>
          </p:nvSpPr>
          <p:spPr>
            <a:xfrm>
              <a:off x="890640" y="4064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55"/>
          <p:cNvGrpSpPr/>
          <p:nvPr/>
        </p:nvGrpSpPr>
        <p:grpSpPr>
          <a:xfrm>
            <a:off x="890640" y="5156280"/>
            <a:ext cx="7727400" cy="931680"/>
            <a:chOff x="890640" y="5156280"/>
            <a:chExt cx="7727400" cy="931680"/>
          </a:xfrm>
        </p:grpSpPr>
        <p:sp>
          <p:nvSpPr>
            <p:cNvPr id="311" name="Text Box 56"/>
            <p:cNvSpPr/>
            <p:nvPr/>
          </p:nvSpPr>
          <p:spPr>
            <a:xfrm>
              <a:off x="1357200" y="5262480"/>
              <a:ext cx="726084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идти вправо, пока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сверху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стена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или 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снизу стена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890640" y="51562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0E97-CD94-4FB3-B2C0-97B624D5351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998720" y="949320"/>
            <a:ext cx="5146560" cy="222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16" name="Прямоугольник 4"/>
          <p:cNvSpPr/>
          <p:nvPr/>
        </p:nvSpPr>
        <p:spPr>
          <a:xfrm>
            <a:off x="1035000" y="3281400"/>
            <a:ext cx="7074000" cy="3110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или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низ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55"/>
          <p:cNvGrpSpPr/>
          <p:nvPr/>
        </p:nvGrpSpPr>
        <p:grpSpPr>
          <a:xfrm>
            <a:off x="5987880" y="3527280"/>
            <a:ext cx="2565720" cy="663480"/>
            <a:chOff x="5987880" y="3527280"/>
            <a:chExt cx="2565720" cy="663480"/>
          </a:xfrm>
        </p:grpSpPr>
        <p:sp>
          <p:nvSpPr>
            <p:cNvPr id="318" name="Text Box 56"/>
            <p:cNvSpPr/>
            <p:nvPr/>
          </p:nvSpPr>
          <p:spPr>
            <a:xfrm>
              <a:off x="6454800" y="3633480"/>
              <a:ext cx="209880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7"/>
            <p:cNvSpPr/>
            <p:nvPr/>
          </p:nvSpPr>
          <p:spPr>
            <a:xfrm>
              <a:off x="5987880" y="3527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81A0-C3D1-476B-BEDF-2CB996BC759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385920" y="882720"/>
            <a:ext cx="6626160" cy="286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3" name="Прямоугольник 7"/>
          <p:cNvSpPr/>
          <p:nvPr/>
        </p:nvSpPr>
        <p:spPr>
          <a:xfrm>
            <a:off x="2082960" y="3000240"/>
            <a:ext cx="6715080" cy="3445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или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низ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A79E-8D72-45BD-A850-DF92843422B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363600" y="871560"/>
            <a:ext cx="6676920" cy="28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7" name="Прямоугольник 4"/>
          <p:cNvSpPr/>
          <p:nvPr/>
        </p:nvSpPr>
        <p:spPr>
          <a:xfrm>
            <a:off x="2127240" y="2252520"/>
            <a:ext cx="6715080" cy="4115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или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низ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сверху стена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3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B928-1CD7-41CB-A111-68444C88E4E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1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FA94-6190-408F-A568-8460C281B16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а коман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476280" y="800280"/>
            <a:ext cx="309384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рх   вниз   вправо  вле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закраси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ая прямоугольная выноска 74"/>
          <p:cNvSpPr/>
          <p:nvPr/>
        </p:nvSpPr>
        <p:spPr>
          <a:xfrm>
            <a:off x="828720" y="1744560"/>
            <a:ext cx="2265480" cy="428760"/>
          </a:xfrm>
          <a:prstGeom prst="wedgeRoundRectCallout">
            <a:avLst>
              <a:gd name="adj1" fmla="val -6606"/>
              <a:gd name="adj2" fmla="val -10016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 +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ая прямоугольная выноска 75"/>
          <p:cNvSpPr/>
          <p:nvPr/>
        </p:nvSpPr>
        <p:spPr>
          <a:xfrm>
            <a:off x="828720" y="2805120"/>
            <a:ext cx="2265480" cy="484200"/>
          </a:xfrm>
          <a:prstGeom prst="wedgeRoundRectCallout">
            <a:avLst>
              <a:gd name="adj1" fmla="val -6606"/>
              <a:gd name="adj2" fmla="val -10016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 +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бе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3" descr=""/>
          <p:cNvPicPr/>
          <p:nvPr/>
        </p:nvPicPr>
        <p:blipFill>
          <a:blip r:embed="rId1"/>
          <a:stretch/>
        </p:blipFill>
        <p:spPr>
          <a:xfrm>
            <a:off x="482760" y="3346560"/>
            <a:ext cx="2825640" cy="310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3" name="Прямоугольник 77"/>
          <p:cNvSpPr/>
          <p:nvPr/>
        </p:nvSpPr>
        <p:spPr>
          <a:xfrm>
            <a:off x="4241880" y="878040"/>
            <a:ext cx="3987720" cy="5534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Команд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0BD9-AFD7-4C92-BA7F-158A683A210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8. Вспомогательные алгорит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помогательные алгорит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6B43-76C4-427B-81D0-27219871B12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3017880" y="1027080"/>
            <a:ext cx="3286080" cy="346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37" name="Group 55"/>
          <p:cNvGrpSpPr/>
          <p:nvPr/>
        </p:nvGrpSpPr>
        <p:grpSpPr>
          <a:xfrm>
            <a:off x="1492200" y="4811760"/>
            <a:ext cx="6693120" cy="931680"/>
            <a:chOff x="1492200" y="4811760"/>
            <a:chExt cx="6693120" cy="931680"/>
          </a:xfrm>
        </p:grpSpPr>
        <p:sp>
          <p:nvSpPr>
            <p:cNvPr id="338" name="Text Box 56"/>
            <p:cNvSpPr/>
            <p:nvPr/>
          </p:nvSpPr>
          <p:spPr>
            <a:xfrm>
              <a:off x="1959120" y="4917960"/>
              <a:ext cx="622620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ложенный цикл использовать сложно,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хотя есть одинаковые ряд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57"/>
            <p:cNvSpPr/>
            <p:nvPr/>
          </p:nvSpPr>
          <p:spPr>
            <a:xfrm>
              <a:off x="1492200" y="4811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помогательные алгорит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CF9D-1024-4EE7-BC94-6E6664383A0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rcRect l="0" t="0" r="0" b="61167"/>
          <a:stretch/>
        </p:blipFill>
        <p:spPr>
          <a:xfrm>
            <a:off x="390600" y="880920"/>
            <a:ext cx="3286080" cy="1346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390600" y="2816280"/>
            <a:ext cx="3286080" cy="13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4" name="Стрелка вниз 8"/>
          <p:cNvSpPr/>
          <p:nvPr/>
        </p:nvSpPr>
        <p:spPr>
          <a:xfrm>
            <a:off x="1922400" y="2332080"/>
            <a:ext cx="223920" cy="379440"/>
          </a:xfrm>
          <a:prstGeom prst="downArrow">
            <a:avLst>
              <a:gd name="adj1" fmla="val 50000"/>
              <a:gd name="adj2" fmla="val 49965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9"/>
          <p:cNvSpPr/>
          <p:nvPr/>
        </p:nvSpPr>
        <p:spPr>
          <a:xfrm>
            <a:off x="4307040" y="998640"/>
            <a:ext cx="3484440" cy="3110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10"/>
          <p:cNvSpPr/>
          <p:nvPr/>
        </p:nvSpPr>
        <p:spPr>
          <a:xfrm>
            <a:off x="4316400" y="4062240"/>
            <a:ext cx="3484440" cy="24400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1"/>
          <p:cNvSpPr/>
          <p:nvPr/>
        </p:nvSpPr>
        <p:spPr>
          <a:xfrm>
            <a:off x="4581360" y="2413080"/>
            <a:ext cx="2111400" cy="13320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Крест 12"/>
          <p:cNvSpPr/>
          <p:nvPr/>
        </p:nvSpPr>
        <p:spPr>
          <a:xfrm rot="2700000">
            <a:off x="5029200" y="2655360"/>
            <a:ext cx="797040" cy="797040"/>
          </a:xfrm>
          <a:prstGeom prst="plus">
            <a:avLst>
              <a:gd name="adj" fmla="val 432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3"/>
          <p:cNvSpPr/>
          <p:nvPr/>
        </p:nvSpPr>
        <p:spPr>
          <a:xfrm>
            <a:off x="7011360" y="2757600"/>
            <a:ext cx="68364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трелка вниз 14"/>
          <p:cNvSpPr/>
          <p:nvPr/>
        </p:nvSpPr>
        <p:spPr>
          <a:xfrm rot="5400000">
            <a:off x="6688800" y="2783520"/>
            <a:ext cx="222120" cy="379440"/>
          </a:xfrm>
          <a:prstGeom prst="downArrow">
            <a:avLst>
              <a:gd name="adj1" fmla="val 50000"/>
              <a:gd name="adj2" fmla="val 5037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кругленная прямоугольная выноска 15"/>
          <p:cNvSpPr/>
          <p:nvPr/>
        </p:nvSpPr>
        <p:spPr>
          <a:xfrm>
            <a:off x="1057320" y="4756320"/>
            <a:ext cx="2930400" cy="914400"/>
          </a:xfrm>
          <a:prstGeom prst="wedgeRoundRectCallout">
            <a:avLst>
              <a:gd name="adj1" fmla="val 62601"/>
              <a:gd name="adj2" fmla="val 849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16"/>
          <p:cNvSpPr/>
          <p:nvPr/>
        </p:nvSpPr>
        <p:spPr>
          <a:xfrm>
            <a:off x="4292640" y="1541520"/>
            <a:ext cx="3484440" cy="2104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3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6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9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2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8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1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4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олилиния 7"/>
          <p:cNvSpPr/>
          <p:nvPr/>
        </p:nvSpPr>
        <p:spPr>
          <a:xfrm>
            <a:off x="3160800" y="5156280"/>
            <a:ext cx="1974600" cy="130500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помогательные алгорит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0B1D-33A9-4074-84E0-38BE4A34CB4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4578480" y="977760"/>
            <a:ext cx="4059000" cy="512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7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635040" y="900000"/>
            <a:ext cx="2838240" cy="29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8" name="Прямоугольник 5"/>
          <p:cNvSpPr/>
          <p:nvPr/>
        </p:nvSpPr>
        <p:spPr>
          <a:xfrm>
            <a:off x="774720" y="4162320"/>
            <a:ext cx="2833560" cy="20142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олилиния 8"/>
          <p:cNvSpPr/>
          <p:nvPr/>
        </p:nvSpPr>
        <p:spPr>
          <a:xfrm>
            <a:off x="2446200" y="1600200"/>
            <a:ext cx="360" cy="49536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олилиния 9"/>
          <p:cNvSpPr/>
          <p:nvPr/>
        </p:nvSpPr>
        <p:spPr>
          <a:xfrm rot="5400000">
            <a:off x="1937160" y="1580400"/>
            <a:ext cx="360" cy="100800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олилиния 10"/>
          <p:cNvSpPr/>
          <p:nvPr/>
        </p:nvSpPr>
        <p:spPr>
          <a:xfrm>
            <a:off x="2705040" y="2095560"/>
            <a:ext cx="360" cy="49536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олилиния 11"/>
          <p:cNvSpPr/>
          <p:nvPr/>
        </p:nvSpPr>
        <p:spPr>
          <a:xfrm rot="5400000">
            <a:off x="1818720" y="1697400"/>
            <a:ext cx="360" cy="176508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олилиния 12"/>
          <p:cNvSpPr/>
          <p:nvPr/>
        </p:nvSpPr>
        <p:spPr>
          <a:xfrm>
            <a:off x="2209680" y="2590920"/>
            <a:ext cx="360" cy="49536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олилиния 13"/>
          <p:cNvSpPr/>
          <p:nvPr/>
        </p:nvSpPr>
        <p:spPr>
          <a:xfrm rot="5400000">
            <a:off x="1834560" y="2697480"/>
            <a:ext cx="360" cy="75564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3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3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3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D449-03DA-429B-9CAC-AEAF2C50824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9EF4-8CB7-4005-A321-0C2FE889177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9. Перем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8880-A47C-4D16-A529-D2B6F24C61B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2471760" y="946080"/>
            <a:ext cx="4622760" cy="24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74" name="Group 55"/>
          <p:cNvGrpSpPr/>
          <p:nvPr/>
        </p:nvGrpSpPr>
        <p:grpSpPr>
          <a:xfrm>
            <a:off x="934920" y="3584520"/>
            <a:ext cx="7651800" cy="1479960"/>
            <a:chOff x="934920" y="3584520"/>
            <a:chExt cx="7651800" cy="1479960"/>
          </a:xfrm>
        </p:grpSpPr>
        <p:sp>
          <p:nvSpPr>
            <p:cNvPr id="375" name="Text Box 56"/>
            <p:cNvSpPr/>
            <p:nvPr/>
          </p:nvSpPr>
          <p:spPr>
            <a:xfrm>
              <a:off x="1401840" y="3690720"/>
              <a:ext cx="7184880" cy="13737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Расстояние до края стены неизвестно,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База расположена с другой стороны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стены на таком же расстояни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57"/>
            <p:cNvSpPr/>
            <p:nvPr/>
          </p:nvSpPr>
          <p:spPr>
            <a:xfrm>
              <a:off x="934920" y="35845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55"/>
          <p:cNvGrpSpPr/>
          <p:nvPr/>
        </p:nvGrpSpPr>
        <p:grpSpPr>
          <a:xfrm>
            <a:off x="2133720" y="5369040"/>
            <a:ext cx="4830120" cy="663480"/>
            <a:chOff x="2133720" y="5369040"/>
            <a:chExt cx="4830120" cy="663480"/>
          </a:xfrm>
        </p:grpSpPr>
        <p:sp>
          <p:nvSpPr>
            <p:cNvPr id="378" name="Text Box 56"/>
            <p:cNvSpPr/>
            <p:nvPr/>
          </p:nvSpPr>
          <p:spPr>
            <a:xfrm>
              <a:off x="2600280" y="5475240"/>
              <a:ext cx="4363560" cy="5205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ак поступит человек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57"/>
            <p:cNvSpPr/>
            <p:nvPr/>
          </p:nvSpPr>
          <p:spPr>
            <a:xfrm>
              <a:off x="2133720" y="5369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хранить данны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A928-3CBD-4FCC-B5C6-718977357A3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365040" y="8031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ивная пам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4"/>
          <p:cNvSpPr/>
          <p:nvPr/>
        </p:nvSpPr>
        <p:spPr>
          <a:xfrm>
            <a:off x="325440" y="1228680"/>
            <a:ext cx="8388360" cy="5396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5"/>
          <p:cNvSpPr/>
          <p:nvPr/>
        </p:nvSpPr>
        <p:spPr>
          <a:xfrm>
            <a:off x="38592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6a6a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6"/>
          <p:cNvSpPr/>
          <p:nvPr/>
        </p:nvSpPr>
        <p:spPr>
          <a:xfrm>
            <a:off x="1138320" y="1279440"/>
            <a:ext cx="75096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6a6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a6a6a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7"/>
          <p:cNvSpPr/>
          <p:nvPr/>
        </p:nvSpPr>
        <p:spPr>
          <a:xfrm>
            <a:off x="188928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8"/>
          <p:cNvSpPr/>
          <p:nvPr/>
        </p:nvSpPr>
        <p:spPr>
          <a:xfrm>
            <a:off x="264168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9"/>
          <p:cNvSpPr/>
          <p:nvPr/>
        </p:nvSpPr>
        <p:spPr>
          <a:xfrm>
            <a:off x="3394080" y="1279440"/>
            <a:ext cx="75096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a6a6a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0"/>
          <p:cNvSpPr/>
          <p:nvPr/>
        </p:nvSpPr>
        <p:spPr>
          <a:xfrm>
            <a:off x="414504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1"/>
          <p:cNvSpPr/>
          <p:nvPr/>
        </p:nvSpPr>
        <p:spPr>
          <a:xfrm>
            <a:off x="4897440" y="1279440"/>
            <a:ext cx="75096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8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2"/>
          <p:cNvSpPr/>
          <p:nvPr/>
        </p:nvSpPr>
        <p:spPr>
          <a:xfrm>
            <a:off x="564840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3"/>
          <p:cNvSpPr/>
          <p:nvPr/>
        </p:nvSpPr>
        <p:spPr>
          <a:xfrm>
            <a:off x="640080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4"/>
          <p:cNvSpPr/>
          <p:nvPr/>
        </p:nvSpPr>
        <p:spPr>
          <a:xfrm>
            <a:off x="7153200" y="1279440"/>
            <a:ext cx="75096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15"/>
          <p:cNvSpPr/>
          <p:nvPr/>
        </p:nvSpPr>
        <p:spPr>
          <a:xfrm>
            <a:off x="790416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6a6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a6a6a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кругленная прямоугольная выноска 16"/>
          <p:cNvSpPr/>
          <p:nvPr/>
        </p:nvSpPr>
        <p:spPr>
          <a:xfrm>
            <a:off x="4826160" y="425520"/>
            <a:ext cx="2428560" cy="549360"/>
          </a:xfrm>
          <a:prstGeom prst="wedgeRoundRectCallout">
            <a:avLst>
              <a:gd name="adj1" fmla="val -38967"/>
              <a:gd name="adj2" fmla="val 101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чейка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17"/>
          <p:cNvSpPr/>
          <p:nvPr/>
        </p:nvSpPr>
        <p:spPr>
          <a:xfrm>
            <a:off x="4865760" y="1252440"/>
            <a:ext cx="807840" cy="4971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8"/>
          <p:cNvSpPr/>
          <p:nvPr/>
        </p:nvSpPr>
        <p:spPr>
          <a:xfrm>
            <a:off x="2874960" y="1897200"/>
            <a:ext cx="339408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: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: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19"/>
          <p:cNvSpPr/>
          <p:nvPr/>
        </p:nvSpPr>
        <p:spPr>
          <a:xfrm>
            <a:off x="4925880" y="1314360"/>
            <a:ext cx="6843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20"/>
          <p:cNvSpPr/>
          <p:nvPr/>
        </p:nvSpPr>
        <p:spPr>
          <a:xfrm>
            <a:off x="4927680" y="1314360"/>
            <a:ext cx="684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22"/>
          <p:cNvSpPr/>
          <p:nvPr/>
        </p:nvSpPr>
        <p:spPr>
          <a:xfrm>
            <a:off x="4927680" y="1322280"/>
            <a:ext cx="6858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олилиния 23"/>
          <p:cNvSpPr/>
          <p:nvPr/>
        </p:nvSpPr>
        <p:spPr>
          <a:xfrm>
            <a:off x="4540320" y="1765440"/>
            <a:ext cx="798480" cy="1234800"/>
          </a:xfrm>
          <a:prstGeom prst="pie">
            <a:avLst/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Скругленная прямоугольная выноска 24"/>
          <p:cNvSpPr/>
          <p:nvPr/>
        </p:nvSpPr>
        <p:spPr>
          <a:xfrm>
            <a:off x="254160" y="2282760"/>
            <a:ext cx="2428560" cy="917640"/>
          </a:xfrm>
          <a:prstGeom prst="wedgeRoundRectCallout">
            <a:avLst>
              <a:gd name="adj1" fmla="val 75574"/>
              <a:gd name="adj2" fmla="val -1745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ая цело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Скругленная прямоугольная выноска 25"/>
          <p:cNvSpPr/>
          <p:nvPr/>
        </p:nvSpPr>
        <p:spPr>
          <a:xfrm>
            <a:off x="5921280" y="2232000"/>
            <a:ext cx="2721240" cy="917640"/>
          </a:xfrm>
          <a:prstGeom prst="wedgeRoundRectCallout">
            <a:avLst>
              <a:gd name="adj1" fmla="val -86541"/>
              <a:gd name="adj2" fmla="val 3299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значение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Скругленная прямоугольная выноска 26"/>
          <p:cNvSpPr/>
          <p:nvPr/>
        </p:nvSpPr>
        <p:spPr>
          <a:xfrm>
            <a:off x="5451480" y="3456000"/>
            <a:ext cx="2720880" cy="555480"/>
          </a:xfrm>
          <a:prstGeom prst="wedgeRoundRectCallout">
            <a:avLst>
              <a:gd name="adj1" fmla="val -74638"/>
              <a:gd name="adj2" fmla="val -5488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ть н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76"/>
          <p:cNvSpPr/>
          <p:nvPr/>
        </p:nvSpPr>
        <p:spPr>
          <a:xfrm>
            <a:off x="396720" y="4405320"/>
            <a:ext cx="8396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ерем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это величина, имеющая имя, тип и значение. Значение переменной может изменяться во время работы программ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8D87-3302-4A43-976E-6C198EA133D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385920" y="846000"/>
            <a:ext cx="4657680" cy="248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9" name="Picture 2" descr=""/>
          <p:cNvPicPr/>
          <p:nvPr/>
        </p:nvPicPr>
        <p:blipFill>
          <a:blip r:embed="rId2"/>
          <a:stretch/>
        </p:blipFill>
        <p:spPr>
          <a:xfrm>
            <a:off x="385920" y="1158840"/>
            <a:ext cx="4657680" cy="24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10" name="Прямоугольник 4"/>
          <p:cNvSpPr/>
          <p:nvPr/>
        </p:nvSpPr>
        <p:spPr>
          <a:xfrm>
            <a:off x="4522680" y="888840"/>
            <a:ext cx="4308480" cy="47862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Обх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:=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:= N +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N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D3E8-2005-464F-AA5D-8BE2F6C9E3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3F38-9001-4085-A6E5-F8082A32CF8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1-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1-B, 1-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1-B, 1-C, 1-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7DBD-C44E-475D-B746-5FCF40B6830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10. Алгоритмы с результа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ы с результат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9B31-80EE-4ADA-BF72-4A6C162982A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399960" y="2063880"/>
            <a:ext cx="3748320" cy="297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0" name="Прямоугольник 76"/>
          <p:cNvSpPr/>
          <p:nvPr/>
        </p:nvSpPr>
        <p:spPr>
          <a:xfrm>
            <a:off x="396720" y="836640"/>
            <a:ext cx="8396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Задача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змерить неизвестную длину стенки и вывести результат на экран, используя команду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вод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5"/>
          <p:cNvSpPr/>
          <p:nvPr/>
        </p:nvSpPr>
        <p:spPr>
          <a:xfrm>
            <a:off x="3602160" y="2490840"/>
            <a:ext cx="511812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Изме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:=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Длина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вод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Длина стенки 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кругленная прямоугольная выноска 6"/>
          <p:cNvSpPr/>
          <p:nvPr/>
        </p:nvSpPr>
        <p:spPr>
          <a:xfrm>
            <a:off x="6121440" y="2957400"/>
            <a:ext cx="2867040" cy="917640"/>
          </a:xfrm>
          <a:prstGeom prst="wedgeRoundRectCallout">
            <a:avLst>
              <a:gd name="adj1" fmla="val -37958"/>
              <a:gd name="adj2" fmla="val 7187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55"/>
          <p:cNvGrpSpPr/>
          <p:nvPr/>
        </p:nvGrpSpPr>
        <p:grpSpPr>
          <a:xfrm>
            <a:off x="934920" y="5302080"/>
            <a:ext cx="7651800" cy="1053360"/>
            <a:chOff x="934920" y="5302080"/>
            <a:chExt cx="7651800" cy="1053360"/>
          </a:xfrm>
        </p:grpSpPr>
        <p:sp>
          <p:nvSpPr>
            <p:cNvPr id="424" name="Text Box 56"/>
            <p:cNvSpPr/>
            <p:nvPr/>
          </p:nvSpPr>
          <p:spPr>
            <a:xfrm>
              <a:off x="1401840" y="5408280"/>
              <a:ext cx="7184880" cy="9471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спомогательный алгоритм возвращает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результат – число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57"/>
            <p:cNvSpPr/>
            <p:nvPr/>
          </p:nvSpPr>
          <p:spPr>
            <a:xfrm>
              <a:off x="934920" y="53020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ы с результат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DB50-59BF-46FE-8AE4-C6058312128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399960" y="947880"/>
            <a:ext cx="3748320" cy="297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9" name="Прямоугольник 5"/>
          <p:cNvSpPr/>
          <p:nvPr/>
        </p:nvSpPr>
        <p:spPr>
          <a:xfrm>
            <a:off x="3468600" y="874800"/>
            <a:ext cx="5118120" cy="5534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1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Длина стен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права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права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 </a:t>
            </a:r>
            <a:r>
              <a:rPr b="1" lang="ru-RU" sz="21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b0f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права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N:=N+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знач:= 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10"/>
          <p:cNvSpPr/>
          <p:nvPr/>
        </p:nvSpPr>
        <p:spPr>
          <a:xfrm>
            <a:off x="3781080" y="5675400"/>
            <a:ext cx="1460880" cy="41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знач:= 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11"/>
          <p:cNvSpPr/>
          <p:nvPr/>
        </p:nvSpPr>
        <p:spPr>
          <a:xfrm>
            <a:off x="4109760" y="868320"/>
            <a:ext cx="660960" cy="41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кругленная прямоугольная выноска 12"/>
          <p:cNvSpPr/>
          <p:nvPr/>
        </p:nvSpPr>
        <p:spPr>
          <a:xfrm>
            <a:off x="657360" y="949320"/>
            <a:ext cx="2454120" cy="1380960"/>
          </a:xfrm>
          <a:prstGeom prst="wedgeRoundRectCallout">
            <a:avLst>
              <a:gd name="adj1" fmla="val 88861"/>
              <a:gd name="adj2" fmla="val -323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 алгоритма – цел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ая прямоугольная выноска 13"/>
          <p:cNvSpPr/>
          <p:nvPr/>
        </p:nvSpPr>
        <p:spPr>
          <a:xfrm>
            <a:off x="668160" y="4351320"/>
            <a:ext cx="2186280" cy="1381320"/>
          </a:xfrm>
          <a:prstGeom prst="wedgeRoundRectCallout">
            <a:avLst>
              <a:gd name="adj1" fmla="val 90393"/>
              <a:gd name="adj2" fmla="val 53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 алгоритма – значение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4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4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4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4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4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4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3D0F-14EE-42E1-BF4F-B558920E6AA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F45C-0E26-4D56-9AF0-D7428F70C38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11. Циклы с перемен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7C4E-F434-4F99-B786-3D06311018E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2679840" y="976320"/>
            <a:ext cx="3784320" cy="39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3" name="Прямоугольник 76"/>
          <p:cNvSpPr/>
          <p:nvPr/>
        </p:nvSpPr>
        <p:spPr>
          <a:xfrm>
            <a:off x="396720" y="4995720"/>
            <a:ext cx="612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спользовать двойной цик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55"/>
          <p:cNvGrpSpPr/>
          <p:nvPr/>
        </p:nvGrpSpPr>
        <p:grpSpPr>
          <a:xfrm>
            <a:off x="2597040" y="5526000"/>
            <a:ext cx="3949920" cy="663480"/>
            <a:chOff x="2597040" y="5526000"/>
            <a:chExt cx="3949920" cy="663480"/>
          </a:xfrm>
        </p:grpSpPr>
        <p:sp>
          <p:nvSpPr>
            <p:cNvPr id="445" name="Text Box 56"/>
            <p:cNvSpPr/>
            <p:nvPr/>
          </p:nvSpPr>
          <p:spPr>
            <a:xfrm>
              <a:off x="3063960" y="5632200"/>
              <a:ext cx="3483000" cy="5205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 чем сложность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57"/>
            <p:cNvSpPr/>
            <p:nvPr/>
          </p:nvSpPr>
          <p:spPr>
            <a:xfrm>
              <a:off x="2597040" y="5526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3857-9CC4-452B-A931-9138F66BEB8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1"/>
          <a:stretch/>
        </p:blipFill>
        <p:spPr>
          <a:xfrm>
            <a:off x="349200" y="841320"/>
            <a:ext cx="3116160" cy="328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349200" y="3179880"/>
            <a:ext cx="3116160" cy="328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1" name="Прямоугольник 5"/>
          <p:cNvSpPr/>
          <p:nvPr/>
        </p:nvSpPr>
        <p:spPr>
          <a:xfrm>
            <a:off x="4092480" y="952560"/>
            <a:ext cx="4405320" cy="521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Овал 6"/>
          <p:cNvSpPr/>
          <p:nvPr/>
        </p:nvSpPr>
        <p:spPr>
          <a:xfrm>
            <a:off x="5364000" y="2452680"/>
            <a:ext cx="379440" cy="379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Овал 7"/>
          <p:cNvSpPr/>
          <p:nvPr/>
        </p:nvSpPr>
        <p:spPr>
          <a:xfrm>
            <a:off x="5364000" y="4281480"/>
            <a:ext cx="379440" cy="379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Скругленная прямоугольная выноска 8"/>
          <p:cNvSpPr/>
          <p:nvPr/>
        </p:nvSpPr>
        <p:spPr>
          <a:xfrm>
            <a:off x="6467400" y="1519200"/>
            <a:ext cx="2185920" cy="544680"/>
          </a:xfrm>
          <a:prstGeom prst="wedgeRoundRectCallout">
            <a:avLst>
              <a:gd name="adj1" fmla="val -82055"/>
              <a:gd name="adj2" fmla="val 1332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кругленная прямоугольная выноска 9"/>
          <p:cNvSpPr/>
          <p:nvPr/>
        </p:nvSpPr>
        <p:spPr>
          <a:xfrm>
            <a:off x="6467400" y="3625920"/>
            <a:ext cx="2185920" cy="544320"/>
          </a:xfrm>
          <a:prstGeom prst="wedgeRoundRectCallout">
            <a:avLst>
              <a:gd name="adj1" fmla="val -83078"/>
              <a:gd name="adj2" fmla="val 79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55"/>
          <p:cNvGrpSpPr/>
          <p:nvPr/>
        </p:nvGrpSpPr>
        <p:grpSpPr>
          <a:xfrm>
            <a:off x="5675400" y="5291280"/>
            <a:ext cx="3235320" cy="1479960"/>
            <a:chOff x="5675400" y="5291280"/>
            <a:chExt cx="3235320" cy="1479960"/>
          </a:xfrm>
        </p:grpSpPr>
        <p:sp>
          <p:nvSpPr>
            <p:cNvPr id="457" name="Text Box 56"/>
            <p:cNvSpPr/>
            <p:nvPr/>
          </p:nvSpPr>
          <p:spPr>
            <a:xfrm>
              <a:off x="6142320" y="5397480"/>
              <a:ext cx="2768400" cy="13737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ужно менять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длину ряда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7"/>
            <p:cNvSpPr/>
            <p:nvPr/>
          </p:nvSpPr>
          <p:spPr>
            <a:xfrm>
              <a:off x="5675400" y="5291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5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4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4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4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9" dur="500"/>
                                        <p:tgtEl>
                                          <p:spTgt spid="4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EEC9-8AB2-4840-993E-47BC64F8214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349200" y="841320"/>
            <a:ext cx="3105360" cy="32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2" name="Прямоугольник 5"/>
          <p:cNvSpPr/>
          <p:nvPr/>
        </p:nvSpPr>
        <p:spPr>
          <a:xfrm>
            <a:off x="4092480" y="952560"/>
            <a:ext cx="4405320" cy="5456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Треуголь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:= N +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6"/>
          <p:cNvSpPr/>
          <p:nvPr/>
        </p:nvSpPr>
        <p:spPr>
          <a:xfrm>
            <a:off x="5240160" y="2654280"/>
            <a:ext cx="379440" cy="379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7"/>
          <p:cNvSpPr/>
          <p:nvPr/>
        </p:nvSpPr>
        <p:spPr>
          <a:xfrm>
            <a:off x="5240160" y="4325760"/>
            <a:ext cx="379440" cy="379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Скругленная прямоугольная выноска 8"/>
          <p:cNvSpPr/>
          <p:nvPr/>
        </p:nvSpPr>
        <p:spPr>
          <a:xfrm>
            <a:off x="6267600" y="2700360"/>
            <a:ext cx="2184120" cy="544320"/>
          </a:xfrm>
          <a:prstGeom prst="wedgeRoundRectCallout">
            <a:avLst>
              <a:gd name="adj1" fmla="val -81546"/>
              <a:gd name="adj2" fmla="val 61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Скругленная прямоугольная выноска 9"/>
          <p:cNvSpPr/>
          <p:nvPr/>
        </p:nvSpPr>
        <p:spPr>
          <a:xfrm>
            <a:off x="6267600" y="3714840"/>
            <a:ext cx="2184120" cy="544320"/>
          </a:xfrm>
          <a:prstGeom prst="wedgeRoundRectCallout">
            <a:avLst>
              <a:gd name="adj1" fmla="val -83078"/>
              <a:gd name="adj2" fmla="val 79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2"/>
          <a:stretch/>
        </p:blipFill>
        <p:spPr>
          <a:xfrm>
            <a:off x="349200" y="3122640"/>
            <a:ext cx="3105360" cy="32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8" name="Скругленная прямоугольная выноска 14"/>
          <p:cNvSpPr/>
          <p:nvPr/>
        </p:nvSpPr>
        <p:spPr>
          <a:xfrm>
            <a:off x="6556320" y="1596960"/>
            <a:ext cx="2185920" cy="889200"/>
          </a:xfrm>
          <a:prstGeom prst="wedgeRoundRectCallout">
            <a:avLst>
              <a:gd name="adj1" fmla="val -70324"/>
              <a:gd name="adj2" fmla="val 61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Скругленная прямоугольная выноска 15"/>
          <p:cNvSpPr/>
          <p:nvPr/>
        </p:nvSpPr>
        <p:spPr>
          <a:xfrm>
            <a:off x="6556320" y="5232240"/>
            <a:ext cx="2185920" cy="889200"/>
          </a:xfrm>
          <a:prstGeom prst="wedgeRoundRectCallout">
            <a:avLst>
              <a:gd name="adj1" fmla="val -70324"/>
              <a:gd name="adj2" fmla="val 61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ть д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4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4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4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2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4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F3D2-4FC4-4B0A-847C-6D535D4240F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3" descr=""/>
          <p:cNvPicPr/>
          <p:nvPr/>
        </p:nvPicPr>
        <p:blipFill>
          <a:blip r:embed="rId1"/>
          <a:stretch/>
        </p:blipFill>
        <p:spPr>
          <a:xfrm>
            <a:off x="349200" y="976320"/>
            <a:ext cx="3105360" cy="327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3" name="Прямоугольник 5"/>
          <p:cNvSpPr/>
          <p:nvPr/>
        </p:nvSpPr>
        <p:spPr>
          <a:xfrm>
            <a:off x="4092480" y="952560"/>
            <a:ext cx="4405320" cy="512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Треуголь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для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до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12"/>
          <p:cNvSpPr/>
          <p:nvPr/>
        </p:nvSpPr>
        <p:spPr>
          <a:xfrm>
            <a:off x="4432320" y="2286000"/>
            <a:ext cx="31986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для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до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55"/>
          <p:cNvGrpSpPr/>
          <p:nvPr/>
        </p:nvGrpSpPr>
        <p:grpSpPr>
          <a:xfrm>
            <a:off x="255600" y="4633920"/>
            <a:ext cx="3235320" cy="1906560"/>
            <a:chOff x="255600" y="4633920"/>
            <a:chExt cx="3235320" cy="1906560"/>
          </a:xfrm>
        </p:grpSpPr>
        <p:sp>
          <p:nvSpPr>
            <p:cNvPr id="476" name="Text Box 56"/>
            <p:cNvSpPr/>
            <p:nvPr/>
          </p:nvSpPr>
          <p:spPr>
            <a:xfrm>
              <a:off x="722520" y="4740120"/>
              <a:ext cx="2768400" cy="18003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ся работа с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переменной в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одной строке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57"/>
            <p:cNvSpPr/>
            <p:nvPr/>
          </p:nvSpPr>
          <p:spPr>
            <a:xfrm>
              <a:off x="255600" y="4633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4" dur="indefinite" restart="never" nodeType="tmRoot">
          <p:childTnLst>
            <p:seq>
              <p:cTn id="1565" dur="indefinite" nodeType="mainSeq">
                <p:childTnLst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2" dur="500"/>
                                        <p:tgtEl>
                                          <p:spTgt spid="4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2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4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4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500"/>
                                        <p:tgtEl>
                                          <p:spTgt spid="4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5" dur="500"/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DAA5-F9AB-4293-8047-4AD9DA6BDCA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363600" y="925560"/>
            <a:ext cx="3105000" cy="3276720"/>
          </a:xfrm>
          <a:prstGeom prst="rect">
            <a:avLst/>
          </a:prstGeom>
          <a:ln w="0">
            <a:noFill/>
          </a:ln>
        </p:spPr>
      </p:pic>
      <p:sp>
        <p:nvSpPr>
          <p:cNvPr id="481" name="Прямоугольник 4"/>
          <p:cNvSpPr/>
          <p:nvPr/>
        </p:nvSpPr>
        <p:spPr>
          <a:xfrm>
            <a:off x="3701880" y="952560"/>
            <a:ext cx="5151600" cy="512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Треуголь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для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до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шаг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6"/>
          <p:cNvSpPr/>
          <p:nvPr/>
        </p:nvSpPr>
        <p:spPr>
          <a:xfrm>
            <a:off x="4057560" y="2286000"/>
            <a:ext cx="437184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для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до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шаг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6" dur="indefinite" restart="never" nodeType="tmRoot">
          <p:childTnLst>
            <p:seq>
              <p:cTn id="1637" dur="indefinite" nodeType="mainSeq">
                <p:childTnLst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5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1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4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7" dur="500"/>
                                        <p:tgtEl>
                                          <p:spTgt spid="4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5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4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4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4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4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67C2-C1CE-4833-A6CE-DB671CCF98E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2. Ци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0365-2BDD-4206-971C-A1E9493CE95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0ED9-23AF-477D-BA53-58C10D5289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12. Алгоритмы с парамет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ы с парамет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F464-3B5B-4141-A0FC-6A22CEBDBF6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3" descr=""/>
          <p:cNvPicPr/>
          <p:nvPr/>
        </p:nvPicPr>
        <p:blipFill>
          <a:blip r:embed="rId1"/>
          <a:stretch/>
        </p:blipFill>
        <p:spPr>
          <a:xfrm>
            <a:off x="2973240" y="981000"/>
            <a:ext cx="3286440" cy="346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92" name="Прямоугольник 76"/>
          <p:cNvSpPr/>
          <p:nvPr/>
        </p:nvSpPr>
        <p:spPr>
          <a:xfrm>
            <a:off x="396720" y="4640400"/>
            <a:ext cx="8345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спользовать вспомогательный алгоритм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Ряд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при вызове которого можно указать длину ря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6"/>
          <p:cNvSpPr/>
          <p:nvPr/>
        </p:nvSpPr>
        <p:spPr>
          <a:xfrm>
            <a:off x="3735000" y="5697360"/>
            <a:ext cx="13694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Ряд(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ы с парамет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C435-98C6-4F76-B114-0E6BB71CFA0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tretch/>
        </p:blipFill>
        <p:spPr>
          <a:xfrm>
            <a:off x="420840" y="936720"/>
            <a:ext cx="3286080" cy="346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97" name="Прямоугольник 7"/>
          <p:cNvSpPr/>
          <p:nvPr/>
        </p:nvSpPr>
        <p:spPr>
          <a:xfrm>
            <a:off x="4216320" y="2021040"/>
            <a:ext cx="4503960" cy="30801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8"/>
          <p:cNvSpPr/>
          <p:nvPr/>
        </p:nvSpPr>
        <p:spPr>
          <a:xfrm>
            <a:off x="6010200" y="2087640"/>
            <a:ext cx="1895400" cy="52380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9"/>
          <p:cNvSpPr/>
          <p:nvPr/>
        </p:nvSpPr>
        <p:spPr>
          <a:xfrm>
            <a:off x="5271840" y="286560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Скругленная прямоугольная выноска 10"/>
          <p:cNvSpPr/>
          <p:nvPr/>
        </p:nvSpPr>
        <p:spPr>
          <a:xfrm>
            <a:off x="6267600" y="995400"/>
            <a:ext cx="2184120" cy="888840"/>
          </a:xfrm>
          <a:prstGeom prst="wedgeRoundRectCallout">
            <a:avLst>
              <a:gd name="adj1" fmla="val -32569"/>
              <a:gd name="adj2" fmla="val 7133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76"/>
          <p:cNvSpPr/>
          <p:nvPr/>
        </p:nvSpPr>
        <p:spPr>
          <a:xfrm>
            <a:off x="419040" y="5275440"/>
            <a:ext cx="8345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араметр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дополнительные данные для работы вспомогательного алгорит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ы с парамет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EDD5-289C-47A9-8A46-771125D2C91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385920" y="903240"/>
            <a:ext cx="3105000" cy="32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5" name="Picture 2" descr=""/>
          <p:cNvPicPr/>
          <p:nvPr/>
        </p:nvPicPr>
        <p:blipFill>
          <a:blip r:embed="rId2"/>
          <a:stretch/>
        </p:blipFill>
        <p:spPr>
          <a:xfrm>
            <a:off x="385920" y="3211560"/>
            <a:ext cx="3105000" cy="327672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7"/>
          <p:cNvSpPr/>
          <p:nvPr/>
        </p:nvSpPr>
        <p:spPr>
          <a:xfrm>
            <a:off x="3701880" y="952560"/>
            <a:ext cx="5151600" cy="512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 парамет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9" dur="500"/>
                                        <p:tgtEl>
                                          <p:spTgt spid="5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4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9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4" dur="500"/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4" dur="500"/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5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5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C398-C240-4AFB-9859-8C3372B8EE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8DEE-A7B4-4AD0-A6A1-A5B6744CE40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4"/>
          <p:cNvSpPr/>
          <p:nvPr/>
        </p:nvSpPr>
        <p:spPr>
          <a:xfrm>
            <a:off x="162000" y="2211480"/>
            <a:ext cx="8820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.т.н., учитель информатики высшей категор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У СОШ № 163, г. Санкт-Петербур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3044-E64C-4CE0-89DB-CF487B6C55C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465120" y="971640"/>
            <a:ext cx="4048200" cy="251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3" name="Прямоугольник 4"/>
          <p:cNvSpPr/>
          <p:nvPr/>
        </p:nvSpPr>
        <p:spPr>
          <a:xfrm>
            <a:off x="4756320" y="979560"/>
            <a:ext cx="391140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олилиния 7"/>
          <p:cNvSpPr/>
          <p:nvPr/>
        </p:nvSpPr>
        <p:spPr>
          <a:xfrm>
            <a:off x="3954600" y="1554120"/>
            <a:ext cx="1166760" cy="4525920"/>
          </a:xfrm>
          <a:prstGeom prst="pie">
            <a:avLst/>
          </a:prstGeom>
          <a:gradFill rotWithShape="0">
            <a:gsLst>
              <a:gs pos="0">
                <a:srgbClr val="ff0000">
                  <a:alpha val="57254"/>
                </a:srgbClr>
              </a:gs>
              <a:gs pos="100000">
                <a:srgbClr val="ffffff">
                  <a:alpha val="79215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6"/>
          <p:cNvSpPr/>
          <p:nvPr/>
        </p:nvSpPr>
        <p:spPr>
          <a:xfrm>
            <a:off x="1644480" y="1554120"/>
            <a:ext cx="232416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5"/>
          <p:cNvSpPr/>
          <p:nvPr/>
        </p:nvSpPr>
        <p:spPr>
          <a:xfrm>
            <a:off x="5116680" y="2060640"/>
            <a:ext cx="23256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ая прямоугольная выноска 8"/>
          <p:cNvSpPr/>
          <p:nvPr/>
        </p:nvSpPr>
        <p:spPr>
          <a:xfrm>
            <a:off x="6383160" y="1494000"/>
            <a:ext cx="1511640" cy="502920"/>
          </a:xfrm>
          <a:prstGeom prst="wedgeRoundRectCallout">
            <a:avLst>
              <a:gd name="adj1" fmla="val -50273"/>
              <a:gd name="adj2" fmla="val 950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D5BE-EE55-4D15-90DF-5E7FE8E342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115D-5C7B-4FE9-AB8B-0689F7495CE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3. Ци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896A-5CF2-4987-ADE2-53828D559C1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361800" y="914400"/>
            <a:ext cx="4381560" cy="2336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7" name="Прямоугольник 4"/>
          <p:cNvSpPr/>
          <p:nvPr/>
        </p:nvSpPr>
        <p:spPr>
          <a:xfrm>
            <a:off x="4933800" y="855720"/>
            <a:ext cx="3911760" cy="5456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олилиния 9"/>
          <p:cNvSpPr/>
          <p:nvPr/>
        </p:nvSpPr>
        <p:spPr>
          <a:xfrm>
            <a:off x="4295880" y="2876400"/>
            <a:ext cx="1374840" cy="2989440"/>
          </a:xfrm>
          <a:prstGeom prst="pie">
            <a:avLst/>
          </a:prstGeom>
          <a:gradFill rotWithShape="0">
            <a:gsLst>
              <a:gs pos="0">
                <a:srgbClr val="ff0000">
                  <a:alpha val="57254"/>
                </a:srgbClr>
              </a:gs>
              <a:gs pos="100000">
                <a:srgbClr val="ffffff">
                  <a:alpha val="79215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1092240" y="3425760"/>
            <a:ext cx="3232080" cy="24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0" name="Прямоугольник 7"/>
          <p:cNvSpPr/>
          <p:nvPr/>
        </p:nvSpPr>
        <p:spPr>
          <a:xfrm>
            <a:off x="5600880" y="2868480"/>
            <a:ext cx="2222280" cy="24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олилиния 8"/>
          <p:cNvSpPr/>
          <p:nvPr/>
        </p:nvSpPr>
        <p:spPr>
          <a:xfrm>
            <a:off x="1684440" y="3870360"/>
            <a:ext cx="1385640" cy="861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headEnd len="med" type="oval" w="med"/>
            <a:tailEnd len="med" type="triangle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kp</cp:lastModifiedBy>
  <dcterms:modified xsi:type="dcterms:W3CDTF">2012-02-13T17:40:52Z</dcterms:modified>
  <cp:revision>831</cp:revision>
  <dc:subject/>
  <dc:title>Программное обеспечение (ПО)</dc:title>
</cp:coreProperties>
</file>